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18C03F-6E15-42A2-A278-F376DAA9FC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ichen werden mit fetthaltiger Farbe aufgetragen und chemisch gefestigt, danach können Abzüge hergestell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wicklungsgeschichte der Schrift = Graphologie vergangener Kultu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p Rundbogen in der  Romanik, - Rundungen in den Buchst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otik hohe Bauwerke – enge hochstrebende Buchst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ilschriften von Mesopotamien (Euphrat und Tigris)  auf Tontaf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eroglyphen waren wohl bedeutenste Schrift mit Bildzeichen  (Bild – und Lautschir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rift wurde nunauch zur Verbreitung nichtreligiöser Literatur verwen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 phönizische Zeichen für Aleph – Ochse stammt aus den Bilderzeichen von Ägyp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lk im östlichen Mittelmeerra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ndelstätigkeit zwang zu Sprach – und Schriftkenntni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Alphabet wurde unter den Aramäern im 1. Jahrtausen v. Chr. Zum internationalen Verstädnigugnsmittel für den gesamten vorderen Orient bis nach Indi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echen fügten Vokale hinz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undlage unserer heutigen Großbuchstaben der Antiquasch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 Unterschied zur griechischen Schrift sind die Balken der Buchstaben nicht gleich breit, sondern wiesen Strichstärkenunterschiede auf und besitzen Serifen (Füßch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pitalis ist Ausgangspunkt für die Entwicklung unsere Kleinbuchstab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allel zu der Entwicklung der Kleinbuchstaben läuft die Entwicklung der Schreibschrif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ben der Capitalis Monumentalis entstanden die Buchschrift Capitalis Quadrata und die erste Kursive Schriftform die 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Curs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önche die zum Schnellschreiben gezwungen w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leinbuchstaben entwickelten sich nicht parallel zu den Großbuchstaben sondern entwickelten sich aus diesen hera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Wandlung zur Minuskel nicht durchgemacht haben: K, W, Y, X, Z,U und V waren in der Form kaum unterschiedlich in Gebra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reibwerkzkeuge wie Pinsel/Feder begünstigten die Ent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 dieser Zeit Zwei-Buchstaben Alphab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10AD-76CE-45C1-8974-4DA236562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CAAA-173E-45EA-9089-02C9EC6DE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0E1B-2EAD-49A5-8E4A-957E5CA13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356A-47DD-49B6-9556-A5123ECFB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2564-6CD0-4D63-BCBB-040864E6B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63EE-B550-4B7D-AF10-0F4B379B7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4844-D553-4A2A-8F17-912AD7416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8BB8-9353-43A4-91BF-6B5C73C54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43DD-2564-46BF-A471-7A4F2E0AD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26F1-84E1-4E05-B01C-F9E2CDC8F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6E18-B46A-4C89-82E1-B8D527FF1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C80E-161F-4AF8-8682-F78D6A4D7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jektgruppe Gest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29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C13-7980-4230-B71F-3F9175731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eschichte der Schrif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päische Schrift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9. – 12. Jh. n. Chr.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905120"/>
            <a:ext cx="6324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rl der Große forcierte die Entwicklung der karolingischen Minuskel, mit dem Ziel, eine einheitliche Schrift im ganzen Reich zu schaf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roling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Schrift entwickelte sich z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rift des Abendl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arolingische Minusk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karolingische%20minuskel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457200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einbuchstabenschrift mit Ober- und Unterlä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Auszeichnung wurde weiterhin die röm.Capitalis benu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3200" y="762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roling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brochene 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8280" y="209880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3017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qua Schrif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828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828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ist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0384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de For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ß- und Kleinbuchst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038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ische Schrif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nkles Schrift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42840" y="1295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295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2133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wei-Buchstaben-Alphabet aus Groß- und Kleinbuchstaben blieb bis heute erha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7621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pitalis wurde nicht von den Minuskeln verdrän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7339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chlief jedoch eine differenzierte  formale Entwickl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828800"/>
            <a:ext cx="6820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ndel der Stilep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breitung der Buchdruckerku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sche Entwick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lturelle Entwicklun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4956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1"/>
                <a:ea typeface="MS Reference 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ührten zu einer Vielzahl von Druck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wicklung der Schrif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influss der Schreibtechni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09680"/>
            <a:ext cx="75819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eibinstrumente und Schreibunterlagen waren für die Ästhetik einer Schrift bestimm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hrfeder ermöglichte 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nelles Schrei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kturierung der Schrift durch kontrollier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Tintenfluss (dick, dünn, geschwungene End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feiner Aufstrich, starker Abstrich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influss der Drucktechni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960" y="259092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 startAt="1455"/>
              <a:tabLst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enberg erfindet den Buchdruck  (Hochdruck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obuste, klar geformte Schriften wa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wend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0360">
              <a:spcBef>
                <a:spcPts val="1500"/>
              </a:spcBef>
              <a:tabLst>
                <a:tab algn="l" pos="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0360">
              <a:spcBef>
                <a:spcPts val="1500"/>
              </a:spcBef>
              <a:tabLst>
                <a:tab algn="l" pos="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182880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8. Jh. Tiefdruck (Kupferstich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280" y="259092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chstaben werden in Kupferplatte vertieft eingrav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hr feine Übergänge sind mög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e für Schrif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odon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Bodoni"/>
              </a:rPr>
              <a:t>Bodon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Didot, Wal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Kupferstich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0574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9920" y="380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. Jh.  Flachdruck (Lithografi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666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68580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 entstan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ifenbetonte 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gyptienne und Italienne 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sp.: </a:t>
            </a:r>
            <a:r>
              <a:rPr b="1" lang="de-DE" sz="2400" spc="-1" strike="noStrike">
                <a:solidFill>
                  <a:srgbClr val="000000"/>
                </a:solidFill>
                <a:latin typeface="Rockwell"/>
              </a:rPr>
              <a:t>Rockwell, </a:t>
            </a:r>
            <a:r>
              <a:rPr b="0" lang="de-DE" sz="2400" spc="-1" strike="noStrike">
                <a:solidFill>
                  <a:srgbClr val="000000"/>
                </a:solidFill>
                <a:latin typeface="ClarendonLight"/>
              </a:rPr>
              <a:t>Clarendon, </a:t>
            </a:r>
            <a:r>
              <a:rPr b="0" lang="de-DE" sz="3200" spc="-1" strike="noStrike">
                <a:solidFill>
                  <a:srgbClr val="000000"/>
                </a:solidFill>
                <a:latin typeface="Durango"/>
              </a:rPr>
              <a:t>Duran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ifenlose Grotesk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sp.: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Eurostil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ial, </a:t>
            </a:r>
            <a:r>
              <a:rPr b="0" lang="de-DE" sz="2800" spc="-1" strike="noStrike">
                <a:solidFill>
                  <a:srgbClr val="000000"/>
                </a:solidFill>
                <a:latin typeface="FuturaThin"/>
              </a:rPr>
              <a:t>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Lithografie" descr=""/>
          <p:cNvPicPr/>
          <p:nvPr/>
        </p:nvPicPr>
        <p:blipFill>
          <a:blip r:embed="rId1"/>
          <a:stretch/>
        </p:blipFill>
        <p:spPr>
          <a:xfrm>
            <a:off x="7162920" y="1447920"/>
            <a:ext cx="1552320" cy="1349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12952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igrane Zeichnungen/Schriften werden mit Hilfe von Pinsel, Zirkel, Lineal oder freihändig mit fetthaltiger Farbe auf  plangeschliffenen Stein aufgebr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chitektur und Schri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752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13372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besteht ein enger Zusammenhang zwischen Schriftart und Kunsts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istige und intellektuelle Entwicklungen einer Epoche drücken sich in Architektur und Schrift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0178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438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0384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895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838080"/>
            <a:ext cx="6629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schen hatten seit jeher das Bedürfnis verschieden Erlebnisse, Begebenheiten festzuhalten und mitzutei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rstufen der Schrift w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bhölzer und Knotenschrift als Gedächtnishil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öhlenmalereien (ca. 20000 v. Ch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Kerbholz" descr=""/>
          <p:cNvPicPr/>
          <p:nvPr/>
        </p:nvPicPr>
        <p:blipFill>
          <a:blip r:embed="rId1"/>
          <a:stretch/>
        </p:blipFill>
        <p:spPr>
          <a:xfrm>
            <a:off x="6324480" y="3238560"/>
            <a:ext cx="247680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Höhlenmalerei" descr=""/>
          <p:cNvPicPr/>
          <p:nvPr/>
        </p:nvPicPr>
        <p:blipFill>
          <a:blip r:embed="rId2">
            <a:grayscl/>
            <a:lum contrast="-30000"/>
          </a:blip>
          <a:stretch/>
        </p:blipFill>
        <p:spPr>
          <a:xfrm>
            <a:off x="6705720" y="4495680"/>
            <a:ext cx="21333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tik 12.- 15. J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05884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brochene Schrif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.B. Gutenberg Bi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20040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e, hochstehende 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dungen sind gebr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Gotik" descr=""/>
          <p:cNvPicPr/>
          <p:nvPr/>
        </p:nvPicPr>
        <p:blipFill>
          <a:blip r:embed="rId1"/>
          <a:stretch/>
        </p:blipFill>
        <p:spPr>
          <a:xfrm>
            <a:off x="6095880" y="169704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naissance 15.- 16. Jh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378160"/>
            <a:ext cx="5410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nig unterschiedliche Strichstä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higes Gesamt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 le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enaissance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1866960" cy="1523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80060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edergeburt des griech.- röm. St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teinische Schriftformen – Antiqua 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: Venezianische/Französische Renaissance Antiq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ift wurde nun auch zur Verbreitung nichtreligiöser Literatur verw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ezianische Renaissance-Ant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9528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4197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icht nach links geneigte Symmetrieachse bei Rund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strich des e liegt schrä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Venezianische%20Antiqua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190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85392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anzösische Renaissance-Ant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44956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strich beim e liegt ger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arock%20antiqua%20Caslon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3150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7. – 18. Jh. Baro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araock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082600" cy="1536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90720" y="30481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breitung der Buchdruckerkunst, technische und kulturelle Entwicklungen, führten zu einer Vielzahl von Druckschri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1911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9528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48769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1752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83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94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rock-Ant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328760"/>
            <a:ext cx="64767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ße Strichstärkenunterschi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se der Rundungen senkre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fen schräg, wenig ausgeru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rift wirkt edel, ged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arock%20antiqua%20Caslon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48006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lassizismus (1750 – 180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3733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innung auf Einfaches, geometrisch Konstruier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Klassizismus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2514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lassizistische-Antiqua (um 1800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equent konstruierte Buchst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rbild waren Kupferstichschri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agrechte Serifen ohne Ru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krechte Achse der Ru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ker Kontrast zwischen dicken und dünnen Linien erschwert Lesbar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Klassiz%20Antiqua%20o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Klassiz%20Antiqua%20e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838080" cy="630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5486400" y="28951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8098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lassizistische Antiqua Schriftar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66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Walbaum" descr=""/>
          <p:cNvPicPr/>
          <p:nvPr/>
        </p:nvPicPr>
        <p:blipFill>
          <a:blip r:embed="rId1"/>
          <a:stretch/>
        </p:blipFill>
        <p:spPr>
          <a:xfrm>
            <a:off x="2933640" y="2262240"/>
            <a:ext cx="3581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ifenbetonte Linear Antiqua (19. Jh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utlich hervorgehobene Seri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um Strichstärkenk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eachse bei Rundungen senk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429000"/>
            <a:ext cx="41148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spie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21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Clarendon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3276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3440" y="2286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 unterscheidet zwei Entwickl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36232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ldhaft gebliebene 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.B.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37816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phabetische 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iften deren ursprüngliche Bildzeichen verwandelt wurde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chgebung wurde bis aufs Äußerste vereinf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73680" y="1403640"/>
            <a:ext cx="1091880" cy="69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5480" y="1423800"/>
            <a:ext cx="1062720" cy="6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577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7150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hönizisch Aleph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pha der  röm.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apit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9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leph1" descr=""/>
          <p:cNvPicPr/>
          <p:nvPr/>
        </p:nvPicPr>
        <p:blipFill>
          <a:blip r:embed="rId1"/>
          <a:stretch/>
        </p:blipFill>
        <p:spPr>
          <a:xfrm>
            <a:off x="4397400" y="5029200"/>
            <a:ext cx="652320" cy="541440"/>
          </a:xfrm>
          <a:prstGeom prst="rect">
            <a:avLst/>
          </a:prstGeom>
          <a:ln w="0">
            <a:noFill/>
          </a:ln>
        </p:spPr>
      </p:pic>
      <p:pic>
        <p:nvPicPr>
          <p:cNvPr id="61" name="aleph2b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628920" cy="581040"/>
          </a:xfrm>
          <a:prstGeom prst="rect">
            <a:avLst/>
          </a:prstGeom>
          <a:ln w="0">
            <a:noFill/>
          </a:ln>
        </p:spPr>
      </p:pic>
      <p:pic>
        <p:nvPicPr>
          <p:cNvPr id="62" name="Capitalis%20A" descr=""/>
          <p:cNvPicPr/>
          <p:nvPr/>
        </p:nvPicPr>
        <p:blipFill>
          <a:blip r:embed="rId3"/>
          <a:stretch/>
        </p:blipFill>
        <p:spPr>
          <a:xfrm>
            <a:off x="7620120" y="5029200"/>
            <a:ext cx="552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ue Sachlichkei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 1900 begann eine Erneuerungsbewegung, die jede Stilnachahmung und unsachliche Dekoration ableh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ter Einfluss der Technik wurden neue Formgesetze ge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e Groteskschriften entst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Serifenlose Linear-Antiqua (Sans-Serif)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 spricht auch von Groteskschrif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tzten sich erst im 20. Jh. als Leseschrift für längere Texte du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r Untergruppen abgeleitet v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er klassizistischen Antiqua und der Renaissance Antiqua         (z.B. Helvetica, Fruti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merikanische Grotesk ( z.B. </a:t>
            </a:r>
            <a:r>
              <a:rPr b="0" lang="de-DE" sz="1800" spc="-1" strike="noStrike">
                <a:solidFill>
                  <a:srgbClr val="000000"/>
                </a:solidFill>
                <a:latin typeface="Franklin Gothic Demi"/>
              </a:rPr>
              <a:t>Franklin Gothic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onstruierte Linear Antiqua (z</a:t>
            </a:r>
            <a:r>
              <a:rPr b="0" lang="de-DE" sz="2000" spc="-1" strike="noStrike">
                <a:solidFill>
                  <a:srgbClr val="000000"/>
                </a:solidFill>
                <a:latin typeface="FuturaThin"/>
              </a:rPr>
              <a:t>. Futura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Eurostile"/>
              </a:rPr>
              <a:t>Eurostile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rkmale der Grotesk Schrift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ine Strichstärkenunterschi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ken z.t. technisch konstru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eachse bei Rundungen senk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erifenlose%20linear%20Antiqua" descr=""/>
          <p:cNvPicPr/>
          <p:nvPr/>
        </p:nvPicPr>
        <p:blipFill>
          <a:blip r:embed="rId1"/>
          <a:stretch/>
        </p:blipFill>
        <p:spPr>
          <a:xfrm>
            <a:off x="2362320" y="4267080"/>
            <a:ext cx="35812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762120"/>
            <a:ext cx="77724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Quellennachw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riftpro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ww.Schriftgrad.de, 20.01.03,13.30 U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riftgeschich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ww.Beinert.net/typographie/index.html,14.01.03,21.45 U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ww.Typolis.de, 20.02.03, 16.10 Uh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ilder auf Folien 16,17,18: Vgl. Frutiger Adrian: (1991), Der Mensch und seine Zeichen, Weiss Verlag, Drei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600200"/>
            <a:ext cx="80773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hönizi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(östl. Mittelmeerraum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e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nsonantenschrif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Lautschr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sonanten sind nicht in Silbe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verschmolz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, di, gu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sondern sind eine eigene Lautein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, d,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phönizische Alphabet bestand aus 22 Lautzei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762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. 2000 v. C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4480" y="685800"/>
            <a:ext cx="27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. 1000 v. C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6781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echen übernahmen die phönizische Schri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setzten einige Buchstaben und füg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weitere Buchstaben hin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e brachten die Zeichen in eine geometrische Form, die weitgehend mit unseren heutigen Großbuchstaben übereinstim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ca. 500 v. Ch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09680"/>
            <a:ext cx="71629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rusker (- Römer)  übernahmen dieses Alphabet und form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…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Stein gemeißel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 reine Versalschri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PITALIS   MONUMENTA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. 600 n. Ch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wicklung einer Kleinbuchstabensch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286000"/>
            <a:ext cx="7924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dingt d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chiedene Schreibmateriali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einfachungen beim schnellen Schreib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standen im Laufe vieler Jahrhunderte aus  der römischen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APITALIS MONUMENTAL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riften mit runden Formen und Kleinbuchstaben, - die Minuskelfo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Entwicklung%20%20Minuskel%20a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553440" cy="1260360"/>
          </a:xfrm>
          <a:prstGeom prst="rect">
            <a:avLst/>
          </a:prstGeom>
          <a:ln w="0">
            <a:noFill/>
          </a:ln>
        </p:spPr>
      </p:pic>
      <p:pic>
        <p:nvPicPr>
          <p:cNvPr id="72" name="Entwicklung%20%20Minuskel%20e" descr=""/>
          <p:cNvPicPr/>
          <p:nvPr/>
        </p:nvPicPr>
        <p:blipFill>
          <a:blip r:embed="rId2"/>
          <a:stretch/>
        </p:blipFill>
        <p:spPr>
          <a:xfrm>
            <a:off x="1143000" y="4495680"/>
            <a:ext cx="6477120" cy="1185840"/>
          </a:xfrm>
          <a:prstGeom prst="rect">
            <a:avLst/>
          </a:prstGeom>
          <a:ln w="0">
            <a:noFill/>
          </a:ln>
        </p:spPr>
      </p:pic>
      <p:pic>
        <p:nvPicPr>
          <p:cNvPr id="73" name="Entwicklung%20%20Minuskel%20e" descr=""/>
          <p:cNvPicPr/>
          <p:nvPr/>
        </p:nvPicPr>
        <p:blipFill>
          <a:blip r:embed="rId3"/>
          <a:stretch/>
        </p:blipFill>
        <p:spPr>
          <a:xfrm>
            <a:off x="1143000" y="2828880"/>
            <a:ext cx="6477120" cy="1198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twicklungsstationen unserer Kleinbuchst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990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Halbuniziale%206" descr=""/>
          <p:cNvPicPr/>
          <p:nvPr/>
        </p:nvPicPr>
        <p:blipFill>
          <a:blip r:embed="rId1"/>
          <a:stretch/>
        </p:blipFill>
        <p:spPr>
          <a:xfrm>
            <a:off x="5334120" y="2940120"/>
            <a:ext cx="1008000" cy="1063440"/>
          </a:xfrm>
          <a:prstGeom prst="rect">
            <a:avLst/>
          </a:prstGeom>
          <a:ln w="0">
            <a:noFill/>
          </a:ln>
        </p:spPr>
      </p:pic>
      <p:pic>
        <p:nvPicPr>
          <p:cNvPr id="77" name="Humanistische%20Minuskel" descr=""/>
          <p:cNvPicPr/>
          <p:nvPr/>
        </p:nvPicPr>
        <p:blipFill>
          <a:blip r:embed="rId2"/>
          <a:stretch/>
        </p:blipFill>
        <p:spPr>
          <a:xfrm>
            <a:off x="5334120" y="4267080"/>
            <a:ext cx="100800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Rustica%205.jh" descr=""/>
          <p:cNvPicPr/>
          <p:nvPr/>
        </p:nvPicPr>
        <p:blipFill>
          <a:blip r:embed="rId3"/>
          <a:stretch/>
        </p:blipFill>
        <p:spPr>
          <a:xfrm>
            <a:off x="5334120" y="609480"/>
            <a:ext cx="99360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Unitiale%206Jh" descr=""/>
          <p:cNvPicPr/>
          <p:nvPr/>
        </p:nvPicPr>
        <p:blipFill>
          <a:blip r:embed="rId4"/>
          <a:stretch/>
        </p:blipFill>
        <p:spPr>
          <a:xfrm>
            <a:off x="5334120" y="1905120"/>
            <a:ext cx="1003320" cy="906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95280" y="1066680"/>
            <a:ext cx="3429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ustica 5. J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ziale 6. J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albunziale 10. J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umanist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9:59:57Z</dcterms:created>
  <dc:creator>Combe-Walter</dc:creator>
  <dc:description/>
  <dc:language>en-US</dc:language>
  <cp:lastModifiedBy>Combe-Walter</cp:lastModifiedBy>
  <dcterms:modified xsi:type="dcterms:W3CDTF">2004-03-09T20:55:53Z</dcterms:modified>
  <cp:revision>76</cp:revision>
  <dc:subject/>
  <dc:title>Geschichte der Schrift</dc:title>
</cp:coreProperties>
</file>